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9F23-A23C-4052-B528-B58815A0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5CC9-2164-4BB3-8728-F03B1BDE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D8A6-398C-48B8-892B-F37D8D1D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DEA1-0F16-4452-9FFA-AF09FF69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F059-C2D6-4F03-A7B2-1C7CD089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57D0-DE4D-4365-A89C-D3D8E502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96AA-E874-4252-AE54-920529CF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1771-B5A2-4734-8830-53B772D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B55F-8E0D-4875-B747-5A38AE8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B33D-C59F-4A6C-9935-8D06D37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775-7A6E-408B-BD84-1138F1B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183D-9585-4774-8E5E-5B695854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D82E-0831-4F47-90BF-3706BEB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8C57-54F8-4CA6-92AB-F92999D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13E4-B849-438D-BF22-F0A4E22D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1EED-D297-43C5-9A0A-990BD6AD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6D8E-AF91-404D-BE15-36198D24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73C7-FDB1-404A-927D-B8E7DBB6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3D60-2AE6-46A1-8B7F-D1BF6999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568E-684D-42E6-A4CA-B4A1362C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F5C5-4BFE-4A1F-B26B-E7BAF3A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A2C2-B1BB-42BD-9821-F4727EF4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12C3-2D38-4ABF-A261-AE4B67FD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079E-71C5-4680-90EA-14BDDBA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7E37-B087-4FC5-822B-5A2D7509C48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5EA2-F70E-46A4-BEBF-B32D68FB2B7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142640"/>
            <a:ext cx="93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19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Радост нечута затрепва у мен, щом за Исуса си спомня блажен; Той ми е извор на всяко добро, вред ме придружва с любящо око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, че любезн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е възлюбил и опрости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 в тоз молитвен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рещна моя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, че любезн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е възлюбил и опрости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 в тоз молитвен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рещна моя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Често увличам се аз във света и тъй забравям Исуса Хрис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се хвърлям в ръцете Му аз, щом пак си спомня за милия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, че любезн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е възлюбил и опрости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 в тоз молитвен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рещна моя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133000"/>
            <a:ext cx="921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Колко ме люби, кой може каза? Той от небето за мене слезна и от любов бе на кръст прикован, аз - грешен - чрез туй да съм оправдан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, че любезн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е възлюбил и опрости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 в тоз молитвен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рещна моя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36360" y="2133000"/>
            <a:ext cx="921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Тука намирам аз мир и покой, щом Господ Исус ме знае за Свой; врагът душевен избягва в тоз час, щом срещу него излезе мой Сп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52360" y="2113920"/>
            <a:ext cx="96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, че любезн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 е възлюбил и опрости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вам се аз в тоз молитвен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рещна моя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. Най-сетне горе в небесния двор сладко ще пея със ангелски хор; тази пречудна любов аз тогаз ще гледам в лика на милия Сп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03T14:46:45Z</dcterms:modified>
  <cp:revision>66</cp:revision>
  <dc:subject/>
  <dc:title>Slide 1</dc:title>
</cp:coreProperties>
</file>